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305-AA8E-46B9-80FA-4D585AA6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393-7E93-4BC9-B841-238399AB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55E-3B12-49F5-9238-FA95F535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265-AB00-4E84-B3D6-E2CB5020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879-1DB2-49C0-9D67-127FE049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D30-BF8E-4508-9C39-836420C3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B93-528F-42E4-B396-FA1D5073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5CC-DDBF-445A-B3FC-D952C36D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542-642F-458C-A21F-2D6D02AA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025-2169-4528-8957-D089EDCA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A89-0518-4EDC-8868-EF4CE00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261-AB4E-41FC-8697-B7485AC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E33E-597C-4731-9071-9927DD856C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400" y="295200"/>
            <a:ext cx="8674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people are in a position that they can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cision about a person they h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as well to go stand upon the beach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e with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offered me with six times what you have 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ed,I would still take my pound of fle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you hope for mercy yourself wh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nei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hylock cuts deeply enough,I’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him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ll my he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7621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3600" y="6764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6002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48120" y="2124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21337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89548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0152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0292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1440" y="47912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586728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2000" y="59342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3040" y="228600"/>
            <a:ext cx="8183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io told him that all his ships were at the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e had no money at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sanio tried to keep Antonio from accept the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,but Antonio treated them as a jo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is young,but I never knew so young a body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wise a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one tries to murder any citizen of Veni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what he owns shall be taken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hall not have you killed,so that you would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of our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2860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3240" y="82872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5880" y="204804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73392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9160" y="31910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95288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34680" y="46386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86728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4440" y="593424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76212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763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046880" y="558720"/>
            <a:ext cx="2811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就我所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这个特别的情况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可怜…，怜惜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做…没用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还是做某事的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向某人宣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指控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撕毁，取消（合同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偿还，报答，报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一个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任…摆布，由…掌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跪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0800" y="53352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s far as I know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8320" y="990720"/>
            <a:ext cx="16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fter al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8520" y="137160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this particular c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39720" y="1905120"/>
            <a:ext cx="55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mercy on 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或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w merc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6080" y="3124080"/>
            <a:ext cx="33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pass judgment on s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31520" y="266688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y/might as well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96252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ea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40280" y="441972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5680" y="480060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/fall in lov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20960" y="518148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n on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6280" y="56386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the merc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1320" y="609588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down on one’s kn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57040" y="222408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’s useless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0040" y="35719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accus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218880" y="990720"/>
            <a:ext cx="9740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I won’t lend you the car ________ you return it to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orrow mo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w that                           B. even if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on condition that           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Your house is  three time_________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size    B. what if    C. as bigger as   D. the siz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from his appearance, he doesn’t look lik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honest 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udging     B. Judged   C. To judge  D. Being ju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late in the morning, Bob turned of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leep     B. Sleeping     C. Sleep     D. Having sl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1060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3240" y="273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53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1240" y="219240"/>
            <a:ext cx="8788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ouse rent is expensive. I’ve got about hal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I had at home and I’m paying 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three times much       B. as much thre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ch as three times       D. three times as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ow do you find the dishes in my restaurant ?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 ordered it ahead of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I read it in an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’ve never had such delicious dishe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’s surprising that you asked m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asked me 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at I pass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or passing him the red penci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f I passed him the red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43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636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30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7280" y="528480"/>
            <a:ext cx="8318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everybody __________, the meeting beg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seated   B. seated   C. was sat   D. took s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Did they_______any agreemen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rive at   B. come  to   C. reach  D.  A, B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It is no use ________forward to _______Jack s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look; hearing      B. looking ;hearing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look ; hear         D. looking ; hear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---When will the train arrive at Liverpo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e train attendant told me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train will arrive after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train wa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train is going to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 train would arrive in half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9620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7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100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99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4880" y="219240"/>
            <a:ext cx="912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ercy was shown_________the war 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on              B. upon           C. to 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ave you tasted the ________of the fro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ork             B. flesh         C. beef         D. m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judge ordered the prisoner _______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ts free          B. set free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 set free         D. would 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as surprised that they finished _________half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ork in such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ess than                  B. no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more than         D. more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“Very well, dear, you ________have the evening dres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im suggested his w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        B. will        C. can       D.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534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4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50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972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1680" y="219240"/>
            <a:ext cx="871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tle Tommy was reluctant to tell the headm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he had done the day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how        C. where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ope _______the best ; prepare_______the wo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; /        B. / ; for       C. for ; for      D. with ;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His parents didn’t have enough money to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higher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ay          B. pay for        C. pay off       D. pay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3720" y="13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8360" y="228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9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1:25Z</dcterms:modified>
  <cp:revision>19</cp:revision>
  <dc:subject/>
  <dc:title>PowerPoint Presentation</dc:title>
</cp:coreProperties>
</file>